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A98-D474-4EAE-B45D-27B2E8C6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179F-F8C7-407A-B044-ED203192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4376-AB1C-4356-9B48-A98046F5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100-1D5D-464B-B396-CD36F360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CC0-0FDF-441F-9FBD-CC7BC027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2CA-BDC7-4A0F-AA70-D705C6C0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165-7869-40D5-942F-ABC3C826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D5C-A463-4EC7-98A5-188FFCAD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B56-6CB2-4FBD-AA7B-B1B06293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51E6-20EA-48CF-9E77-7A6DE3E4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761-6E0F-4F8C-B8FB-D5747533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6E61-A4B1-48A6-8037-C6D6D702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DDA1-9BD6-43CB-A56A-8D2CCB55DF55}" type="slidenum">
              <a:rPr b="0" lang="ar-J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403880" y="0"/>
            <a:ext cx="474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907920"/>
            <a:ext cx="3505320" cy="79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في ظلّ حمايت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نلتجئ يا مري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لا تردّي طلبتنا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عندما ندعو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76720" y="755640"/>
            <a:ext cx="3792600" cy="88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99"/>
                </a:solidFill>
                <a:latin typeface="Times New Roman"/>
              </a:rPr>
              <a:t>يا فخر البرايا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99"/>
                </a:solidFill>
                <a:latin typeface="Times New Roman"/>
              </a:rPr>
              <a:t>يا خير الور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99"/>
                </a:solidFill>
                <a:latin typeface="Times New Roman"/>
              </a:rPr>
              <a:t>يا بحر العطايا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99"/>
                </a:solidFill>
                <a:latin typeface="Times New Roman"/>
              </a:rPr>
              <a:t>في الدنيا جر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3960720" cy="685800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</p:spTree>
  </p:cSld>
  <p:transition spd="slow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03280" y="915840"/>
            <a:ext cx="6337440" cy="5106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0480" y="44280"/>
            <a:ext cx="728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في ظلّ حمايتك</a:t>
            </a:r>
            <a:r>
              <a:rPr b="1" lang="ar-JO" sz="5400" spc="-1" strike="noStrike">
                <a:solidFill>
                  <a:srgbClr val="663300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نلتجئ يا مري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5943600"/>
            <a:ext cx="728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لا تردّي طلبتنا </a:t>
            </a:r>
            <a:r>
              <a:rPr b="1" lang="ar-JO" sz="5400" spc="-1" strike="noStrike">
                <a:solidFill>
                  <a:srgbClr val="663300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عندما ندعو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75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14800" y="465120"/>
            <a:ext cx="4800600" cy="87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ا باب السما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ا أم الفد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ا عين الرجا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ا نور الهد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08000" y="0"/>
            <a:ext cx="5256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164360" y="1530360"/>
            <a:ext cx="1835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في ظلّ حمايتك</a:t>
            </a:r>
            <a:r>
              <a:rPr b="1" lang="ar-JO" sz="5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نلتجئ يا مري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836640"/>
            <a:ext cx="17272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لا تردّي طلبتنا </a:t>
            </a:r>
            <a:r>
              <a:rPr b="1" lang="ar-JO" sz="5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عندما ندعو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769080" cy="460872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108000" y="1500120"/>
            <a:ext cx="8959680" cy="4289400"/>
            <a:chOff x="108000" y="1500120"/>
            <a:chExt cx="8959680" cy="428940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108000" y="1500120"/>
              <a:ext cx="1676520" cy="14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108000" y="4365720"/>
              <a:ext cx="1676520" cy="14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5"/>
            <a:stretch/>
          </p:blipFill>
          <p:spPr>
            <a:xfrm>
              <a:off x="7391520" y="1500120"/>
              <a:ext cx="1676160" cy="14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6"/>
            <a:stretch/>
          </p:blipFill>
          <p:spPr>
            <a:xfrm>
              <a:off x="7391520" y="4365720"/>
              <a:ext cx="1676160" cy="142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611280" y="115920"/>
            <a:ext cx="8304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ارحمي عبيداً... باتوا مخلصي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8960" y="5715000"/>
            <a:ext cx="8304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بغون المزيد... منكِ كلَّ حي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99ff"/>
            </a:gs>
            <a:gs pos="100000">
              <a:srgbClr val="c0c0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49687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164360" y="1530360"/>
            <a:ext cx="1835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في ظلّ حمايتك</a:t>
            </a:r>
            <a:r>
              <a:rPr b="1" lang="ar-JO" sz="5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نلتجئ يا مري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836640"/>
            <a:ext cx="17272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لا تردّي طلبتنا </a:t>
            </a:r>
            <a:r>
              <a:rPr b="1" lang="ar-JO" sz="5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عندما ندعو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05:39:47Z</dcterms:created>
  <dc:creator>Sr Lina</dc:creator>
  <dc:description/>
  <dc:language>en-US</dc:language>
  <cp:lastModifiedBy>user</cp:lastModifiedBy>
  <dcterms:modified xsi:type="dcterms:W3CDTF">2005-07-30T05:56:38Z</dcterms:modified>
  <cp:revision>91</cp:revision>
  <dc:subject/>
  <dc:title>PowerPoint Presentation</dc:title>
</cp:coreProperties>
</file>